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E5C-0F4D-45E0-B6FA-CDCA6CA1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0B3-C675-44B1-ABD4-4DCA6705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62CE-914B-4EA8-A33D-A3433200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E08F-D910-4259-9821-0682A778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2087-1906-4A00-8B15-98D1B024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14C-ACAF-49E8-914B-C6E03BB9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2D87-044D-4F57-A436-59EC991C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8576-6F9F-4847-8522-CF1AF7E9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1B0-590C-4D5F-A0D3-A240832E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526-E349-4B45-863F-B9D9E1E5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2C1-BDF1-47FD-8244-A5FFB8BC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F03-917C-4A9C-989A-FAF6E91A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E107-789E-481B-ADD8-04AD47D77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rans-siberia-tour-three-cities"/>
          <p:cNvPicPr/>
          <p:nvPr/>
        </p:nvPicPr>
        <p:blipFill>
          <a:blip r:embed="rId1"/>
          <a:stretch/>
        </p:blipFill>
        <p:spPr>
          <a:xfrm>
            <a:off x="0" y="-17640"/>
            <a:ext cx="1043928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99"/>
                </a:solidFill>
                <a:latin typeface="Berlin Sans FB Demi"/>
              </a:rPr>
              <a:t>Movem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666520" y="4343400"/>
            <a:ext cx="53341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Burst My Bubble"/>
              </a:rPr>
              <a:t>By:</a:t>
            </a:r>
            <a:r>
              <a:rPr b="0" lang="en-US" sz="4800" spc="-1" strike="noStrike">
                <a:solidFill>
                  <a:srgbClr val="cc66ff"/>
                </a:solidFill>
                <a:latin typeface="Burst My Bubble"/>
              </a:rPr>
              <a:t> </a:t>
            </a:r>
            <a:r>
              <a:rPr b="0" lang="en-US" sz="4800" spc="-1" strike="noStrike">
                <a:solidFill>
                  <a:srgbClr val="cc00ff"/>
                </a:solidFill>
                <a:latin typeface="Burst My Bubble"/>
              </a:rPr>
              <a:t>Alissa Tam</a:t>
            </a:r>
            <a:r>
              <a:rPr b="0" lang="en-US" sz="4800" spc="-1" strike="noStrike">
                <a:solidFill>
                  <a:srgbClr val="cc66ff"/>
                </a:solidFill>
                <a:latin typeface="Burst My Bubble"/>
              </a:rPr>
              <a:t> </a:t>
            </a:r>
            <a:r>
              <a:rPr b="0" lang="en-US" sz="4800" spc="-1" strike="noStrike">
                <a:solidFill>
                  <a:srgbClr val="ff3399"/>
                </a:solidFill>
                <a:latin typeface="Burst My Bubble"/>
              </a:rPr>
              <a:t>and</a:t>
            </a:r>
            <a:r>
              <a:rPr b="0" lang="en-US" sz="4800" spc="-1" strike="noStrike">
                <a:solidFill>
                  <a:srgbClr val="cc66ff"/>
                </a:solidFill>
                <a:latin typeface="Burst My Bubble"/>
              </a:rPr>
              <a:t> </a:t>
            </a:r>
            <a:r>
              <a:rPr b="0" lang="en-US" sz="4800" spc="-1" strike="noStrike">
                <a:solidFill>
                  <a:srgbClr val="66ff33"/>
                </a:solidFill>
                <a:latin typeface="Burst My Bubble"/>
              </a:rPr>
              <a:t>Bridget Durgin</a:t>
            </a:r>
            <a:r>
              <a:rPr b="0" lang="en-US" sz="4000" spc="-1" strike="noStrike">
                <a:solidFill>
                  <a:srgbClr val="66ff33"/>
                </a:solidFill>
                <a:latin typeface="Burst My Bubb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auhaus 93"/>
              </a:rPr>
              <a:t>Water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Many Russian rivers run from south to north making their use difficult during the wi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Most ports are covered in snow and 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The traders must transport their goods another 200 miles to reach the nearest part of inland Russ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Matura MT Script Capitals"/>
              </a:rPr>
              <a:t>Port Ci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Russia has two important ports called Kaliningrad and St. Petersbur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Kaliningrad is located on a small island in the Baltic S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It’s the only port that stays ice-free the whol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In the summer they have the choice of keeping their goods on the ships to travel 500 miles to St. Petersbur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vie"/>
              </a:rPr>
              <a:t>Railr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Railroad travel is the main transportation of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In 1995 Russia had 154,000km of railroads but 26% of them were electr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Railroad traffic dropped since the beginning of the Russian economic reform, making the economy 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Kristen ITC"/>
              </a:rPr>
              <a:t>Air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 donation of air service of total travel has dropped to 12.5% by 199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 number of passengers flying was less then half the 1990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y pay part of air fares and long distance flights between cities accounted for much of the air activity in the early 199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image1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viet citizens rely on public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six Russian cities have underground transportation, Moscow, St. Petersburg, Yekaterinburg, Nizhniy, Novgorod, Novosibirsk, and Sama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t of vehicles require expensive repair and moder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5Z</dcterms:created>
  <dc:creator>Student</dc:creator>
  <dc:description/>
  <dc:language>en-US</dc:language>
  <cp:lastModifiedBy>Alissa Tam</cp:lastModifiedBy>
  <dcterms:modified xsi:type="dcterms:W3CDTF">2010-12-20T23:56:31Z</dcterms:modified>
  <cp:revision>6</cp:revision>
  <dc:subject/>
  <dc:title>Movement</dc:title>
</cp:coreProperties>
</file>